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2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23.png" ContentType="image/png"/>
  <Override PartName="/ppt/media/image30.jpeg" ContentType="image/jpeg"/>
  <Override PartName="/ppt/media/image15.png" ContentType="image/png"/>
  <Override PartName="/ppt/media/image24.jpeg" ContentType="image/jpeg"/>
  <Override PartName="/ppt/media/image31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14.jpeg" ContentType="image/jpeg"/>
  <Override PartName="/ppt/media/image16.jpeg" ContentType="image/jpeg"/>
  <Override PartName="/ppt/media/image6.jpeg" ContentType="image/jpeg"/>
  <Override PartName="/ppt/media/image18.png" ContentType="image/png"/>
  <Override PartName="/ppt/media/image20.png" ContentType="image/png"/>
  <Override PartName="/ppt/media/image2.jpeg" ContentType="image/jpeg"/>
  <Override PartName="/ppt/media/image19.jpeg" ContentType="image/jpeg"/>
  <Override PartName="/ppt/media/image25.png" ContentType="image/png"/>
  <Override PartName="/ppt/media/image2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92BD-85FA-4AF2-9B80-463EB8CB5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7CB3-7C7C-46F8-83FA-E93574344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727B-4A55-401C-B170-E8294D5BE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42B2-5CCF-45A9-A448-869BC4C0F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F19CF-A76B-4BE4-A763-25EF999CB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8446E-6D5A-46F8-947E-801CF974A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74A8C-5C5D-4616-A665-F7171C3C7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81AAB-48C6-448B-92F5-F57A4DA36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D2061-5764-41E1-B4BA-68DC54227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1F223-3C6B-45C7-92D8-5AEAFC9D4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CCFDA-F690-45E5-8A93-0CE6C0C4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11F4-4D90-4DC5-AB99-D138841A8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08626-C855-4CFA-A34C-8B980701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F439D-E14A-4CBF-BB26-873B152A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2A064-155F-4FD1-9877-A42DB23AD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E3715-48C1-4B44-95E3-EEF9586FF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A2D93-53B3-4D61-9BD9-F96F6DB84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2CB6-D8BB-46F9-AAB4-6FD456329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A651-B976-4B27-A336-A84D460D1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C21F-F298-4194-83C0-6FE30CD53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D98A-F780-4E23-A90B-DA8B48C78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3D52-5D86-456C-9DF7-7DDB40C9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A0EF-9269-42A9-BEE1-060D29B8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FDC8-D6EE-479A-AA88-3138C29C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85DBF-2D92-4739-846B-2E8D0F85A961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8B348-CF07-4998-BB6E-EB44C4C96870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hyperlink" Target="http://cs10384.vkontakte.ru/u936497/-1/x_2d1b5263.jpg" TargetMode="External"/><Relationship Id="rId4" Type="http://schemas.openxmlformats.org/officeDocument/2006/relationships/hyperlink" Target="http://www.sostav.ru/articles/rus/2005/columns/rek-time/images/minin907.jpg" TargetMode="External"/><Relationship Id="rId5" Type="http://schemas.openxmlformats.org/officeDocument/2006/relationships/hyperlink" Target="http://www.pravmir.ru/wp-content/uploads/2011/11/mip-580x380.jpg" TargetMode="External"/><Relationship Id="rId6" Type="http://schemas.openxmlformats.org/officeDocument/2006/relationships/hyperlink" Target="http://history.sgu.ru/img/thumbs/x1-p6_s.jpg" TargetMode="External"/><Relationship Id="rId7" Type="http://schemas.openxmlformats.org/officeDocument/2006/relationships/hyperlink" Target="http://www.rusizn.ru/images/smuta/sm014_1.jpg" TargetMode="External"/><Relationship Id="rId8" Type="http://schemas.openxmlformats.org/officeDocument/2006/relationships/hyperlink" Target="http://sbiblio.com/biblio/archive/zanin_smuta_time_in_rus/001.jpg" TargetMode="External"/><Relationship Id="rId9" Type="http://schemas.openxmlformats.org/officeDocument/2006/relationships/hyperlink" Target="http://www.pravoslavie.ru/sas/image/100489/48957.p.jpg" TargetMode="Externa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www.pravoslavie.ru/sas/image/100489/48957.p.jpg"/>
          <p:cNvPicPr/>
          <p:nvPr/>
        </p:nvPicPr>
        <p:blipFill>
          <a:blip r:embed="rId2"/>
          <a:stretch/>
        </p:blipFill>
        <p:spPr>
          <a:xfrm>
            <a:off x="1446120" y="1773360"/>
            <a:ext cx="6340680" cy="4601880"/>
          </a:xfrm>
          <a:prstGeom prst="rect">
            <a:avLst/>
          </a:prstGeom>
          <a:ln w="0">
            <a:noFill/>
          </a:ln>
        </p:spPr>
      </p:pic>
      <p:pic>
        <p:nvPicPr>
          <p:cNvPr id="83" name="Заголовок 4" descr=""/>
          <p:cNvPicPr/>
          <p:nvPr/>
        </p:nvPicPr>
        <p:blipFill>
          <a:blip r:embed="rId3"/>
          <a:stretch/>
        </p:blipFill>
        <p:spPr>
          <a:xfrm>
            <a:off x="384120" y="103320"/>
            <a:ext cx="8504280" cy="13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42600"/>
            <a:ext cx="300816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5 августа  Ходкевич был изгнан из Москвы. Однако не вся Москва была освобождена от захватчиков. Оставались ещё польские отряды полковников Струся и Будилы, засевшие в Китай-городе и Кремле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ная, что осажденные поляки терпят страшный голод, Пожарский направил им письмо, в котором предлагал польскому рыцарству сдаться. «Ваши головы и жизнь будут сохранены вам, — писал он, — я возьму это на свою душу и упрошу согласия на это всех ратных людей». На что от польских полковников последовал высокомерный и хвастливый ответ с отказом на предложение Пожарского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Содержимое 4" descr="Lissner.jpg"/>
          <p:cNvPicPr/>
          <p:nvPr/>
        </p:nvPicPr>
        <p:blipFill>
          <a:blip r:embed="rId2"/>
          <a:stretch/>
        </p:blipFill>
        <p:spPr>
          <a:xfrm>
            <a:off x="3575160" y="642960"/>
            <a:ext cx="528300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Заголовок 1" descr=""/>
          <p:cNvPicPr/>
          <p:nvPr/>
        </p:nvPicPr>
        <p:blipFill>
          <a:blip r:embed="rId2"/>
          <a:stretch/>
        </p:blipFill>
        <p:spPr>
          <a:xfrm>
            <a:off x="304920" y="268200"/>
            <a:ext cx="3187440" cy="7192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999720"/>
            <a:ext cx="300816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2 октября 1612 года Китай-город был взят приступом русскими войсками. А на 27 октября был назначен торжественный вход в Кремль войск князей Пожарского и Трубецкого. Когда войска собрались у Лобного места, архимандрит Троице-Сергиевого монастыря Дионисий совершил торжественный молебен в честь победы ополченцев. После чего под звон колоколов победители в сопровождении народа вступили в Кремль со знаменами и хоругвями. Так завершилось очищение Москвы и Московского государства от иноземных захватчиков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Содержимое 4" descr="56429.jpeg"/>
          <p:cNvPicPr/>
          <p:nvPr/>
        </p:nvPicPr>
        <p:blipFill>
          <a:blip r:embed="rId3"/>
          <a:stretch/>
        </p:blipFill>
        <p:spPr>
          <a:xfrm>
            <a:off x="3643200" y="1143000"/>
            <a:ext cx="528660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Заголовок 1" descr=""/>
          <p:cNvPicPr/>
          <p:nvPr/>
        </p:nvPicPr>
        <p:blipFill>
          <a:blip r:embed="rId2"/>
          <a:stretch/>
        </p:blipFill>
        <p:spPr>
          <a:xfrm>
            <a:off x="274680" y="244440"/>
            <a:ext cx="3230640" cy="7556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928440"/>
            <a:ext cx="34718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амятник Минину и Пожарскому - самый первый в Москве! Однако, изначально его планировали установить в Нижнем Новгороде - в городе, где было собрано ополчение, "на том самом месте, где Минин представил народу все имущество своё и воспламенил тем соревнование своих сограждан", а установку приурочить к 200-летию памятных событий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течественная война 1812 года повлияла на многие сферы жизни и интерес к созданию памятника был и так велик, но после Отечественной войны, на волне подъема патриотизма, он вырос еще больше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Содержимое 4" descr="0_5dcb_b497bbfd_XL.jpg"/>
          <p:cNvPicPr/>
          <p:nvPr/>
        </p:nvPicPr>
        <p:blipFill>
          <a:blip r:embed="rId3"/>
          <a:stretch/>
        </p:blipFill>
        <p:spPr>
          <a:xfrm>
            <a:off x="4041720" y="272880"/>
            <a:ext cx="417852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428760"/>
            <a:ext cx="300816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кульптор изобразил момент, когда Кузьма Минин, указывая рукой на Москву, вручает князю Пожарскому старинный меч и призывает его встать во главе русского войска. Опираясь на щит, раненый воевода приподнимается со своего ложа, что символизирует пробуждение народного самосознания в трудный для Отечества час. Установить памятник решили в Москве, на Красной площад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Содержимое 4" descr="s0806242.jpg"/>
          <p:cNvPicPr/>
          <p:nvPr/>
        </p:nvPicPr>
        <p:blipFill>
          <a:blip r:embed="rId2"/>
          <a:stretch/>
        </p:blipFill>
        <p:spPr>
          <a:xfrm>
            <a:off x="3786120" y="571680"/>
            <a:ext cx="48578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Заголовок 1" descr=""/>
          <p:cNvPicPr/>
          <p:nvPr/>
        </p:nvPicPr>
        <p:blipFill>
          <a:blip r:embed="rId2"/>
          <a:stretch/>
        </p:blipFill>
        <p:spPr>
          <a:xfrm>
            <a:off x="341280" y="268200"/>
            <a:ext cx="3382920" cy="12556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6 декабря 2004 года Госдума РФ приняла одновременно в трех чтениях поправки в Федеральный закон «О днях воинской славы (Победных днях России)». Одной из правок было введение нового праздника — Дня народного единства  4 ноября., в день освобождения Москвы от польских интервенто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1400"/>
            </a:br>
            <a:br>
              <a:rPr sz="14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Содержимое 6" descr="268.jpg"/>
          <p:cNvPicPr/>
          <p:nvPr/>
        </p:nvPicPr>
        <p:blipFill>
          <a:blip r:embed="rId3"/>
          <a:stretch/>
        </p:blipFill>
        <p:spPr>
          <a:xfrm>
            <a:off x="4121280" y="179280"/>
            <a:ext cx="4308480" cy="62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3017880" cy="7383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214280"/>
            <a:ext cx="300816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Итак, в ноябре 1612 года страна была спасена. Спасена самоотверженностью людей, патриотически настроенных представителей разных сословий и народностей, сумевших преодолеть эгоизм и неприятие друг друга в борьбе против общего врага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Так было в 1612, так было через 200 лет 1812 во время борьбы с Наполеоном, так было во время Великой Отечественной войны в 1941-1945. И так должно быть всегда!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Содержимое 4" descr="3_resize.jpg"/>
          <p:cNvPicPr/>
          <p:nvPr/>
        </p:nvPicPr>
        <p:blipFill>
          <a:blip r:embed="rId3"/>
          <a:stretch/>
        </p:blipFill>
        <p:spPr>
          <a:xfrm>
            <a:off x="3575160" y="919080"/>
            <a:ext cx="511164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Заголовок 1" descr=""/>
          <p:cNvPicPr/>
          <p:nvPr/>
        </p:nvPicPr>
        <p:blipFill>
          <a:blip r:embed="rId2"/>
          <a:stretch/>
        </p:blipFill>
        <p:spPr>
          <a:xfrm>
            <a:off x="2639880" y="493560"/>
            <a:ext cx="3340080" cy="9208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285920" y="1571400"/>
            <a:ext cx="711504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олерантность означает терпимость к чужим мнениям и поступкам, способность относиться к ним без раздражения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Содержимое 4" descr="img1.gif"/>
          <p:cNvPicPr/>
          <p:nvPr/>
        </p:nvPicPr>
        <p:blipFill>
          <a:blip r:embed="rId3"/>
          <a:stretch/>
        </p:blipFill>
        <p:spPr>
          <a:xfrm>
            <a:off x="1500120" y="2714760"/>
            <a:ext cx="665964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Заголовок 4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3017880" cy="1170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28760" y="857160"/>
            <a:ext cx="30081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удьте терпимее к другим людям. Запомните - не все думают и живут не так как вы, не все имеют такое же мнение как вы. И вы не можете ставить это людям в вину. Многообразие мира это прекрасно. Иначе мир был бы серым, скучны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Содержимое 8" descr="my_ediny - копия.jpg"/>
          <p:cNvPicPr/>
          <p:nvPr/>
        </p:nvPicPr>
        <p:blipFill>
          <a:blip r:embed="rId3"/>
          <a:stretch/>
        </p:blipFill>
        <p:spPr>
          <a:xfrm>
            <a:off x="3575160" y="1390680"/>
            <a:ext cx="511164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Заголовок 4" descr=""/>
          <p:cNvPicPr/>
          <p:nvPr/>
        </p:nvPicPr>
        <p:blipFill>
          <a:blip r:embed="rId2"/>
          <a:stretch/>
        </p:blipFill>
        <p:spPr>
          <a:xfrm>
            <a:off x="165240" y="633240"/>
            <a:ext cx="8942400" cy="13716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285480" y="2214720"/>
            <a:ext cx="828684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ользованные ресурсы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ортрет Д. Пожарского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Book Antiqua"/>
              </a:rPr>
              <a:t>http://lemur59.ru/sites/default/files/images/1030.jpg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Минин и Пожарский в Москве. </a:t>
            </a:r>
            <a:r>
              <a:rPr b="0" lang="en-US" sz="1100" spc="-1" strike="noStrike" u="sng">
                <a:solidFill>
                  <a:srgbClr val="410082"/>
                </a:solidFill>
                <a:uFillTx/>
                <a:latin typeface="Book Antiqua"/>
                <a:hlinkClick r:id="rId3"/>
              </a:rPr>
              <a:t>http://cs10384.vkontakte.ru/u936497/-1/x_2d1b5263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амятник Минину и Пожарскому в Москве. </a:t>
            </a:r>
            <a:r>
              <a:rPr b="0" lang="en-US" sz="1100" spc="-1" strike="noStrike" u="sng">
                <a:solidFill>
                  <a:srgbClr val="410082"/>
                </a:solidFill>
                <a:uFillTx/>
                <a:latin typeface="Book Antiqua"/>
                <a:hlinkClick r:id="rId4"/>
              </a:rPr>
              <a:t>http://www.sostav.ru/articles/rus/2005/columns/rek-time/images/minin907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Минин и Пожарский въезжают в Москву. </a:t>
            </a:r>
            <a:r>
              <a:rPr b="0" lang="en-US" sz="1100" spc="-1" strike="noStrike" u="sng">
                <a:solidFill>
                  <a:srgbClr val="410082"/>
                </a:solidFill>
                <a:uFillTx/>
                <a:latin typeface="Book Antiqua"/>
                <a:hlinkClick r:id="rId5"/>
              </a:rPr>
              <a:t>http://www.pravmir.ru/wp-content/uploads/2011/11/mip-580x380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«Изгнание польских интервентов из Московского Кремля. Автор: Лисснер Э.» </a:t>
            </a:r>
            <a:r>
              <a:rPr b="0" lang="en-US" sz="1100" spc="-1" strike="noStrike" u="sng">
                <a:solidFill>
                  <a:srgbClr val="410082"/>
                </a:solidFill>
                <a:uFillTx/>
                <a:latin typeface="Book Antiqua"/>
                <a:hlinkClick r:id="rId6"/>
              </a:rPr>
              <a:t>http://history.sgu.ru/img/thumbs/x1-p6_s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Первое ополчение. </a:t>
            </a:r>
            <a:r>
              <a:rPr b="0" lang="en-US" sz="1100" spc="-1" strike="noStrike" u="sng">
                <a:solidFill>
                  <a:srgbClr val="410082"/>
                </a:solidFill>
                <a:uFillTx/>
                <a:latin typeface="Book Antiqua"/>
                <a:hlinkClick r:id="rId7"/>
              </a:rPr>
              <a:t>http://www.rusizn.ru/images/smuta/sm014_1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Дворянская конница XVI в. С. Герберштейн </a:t>
            </a:r>
            <a:r>
              <a:rPr b="0" lang="en-US" sz="1100" spc="-1" strike="noStrike" u="sng">
                <a:solidFill>
                  <a:srgbClr val="410082"/>
                </a:solidFill>
                <a:uFillTx/>
                <a:latin typeface="Book Antiqua"/>
                <a:hlinkClick r:id="rId8"/>
              </a:rPr>
              <a:t>http://sbiblio.com/biblio/archive/zanin_smuta_time_in_rus/001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Баталия. </a:t>
            </a:r>
            <a:r>
              <a:rPr b="1" lang="en-US" sz="1100" spc="-1" strike="noStrike">
                <a:solidFill>
                  <a:srgbClr val="000000"/>
                </a:solidFill>
                <a:latin typeface="Book Antiqua"/>
              </a:rPr>
              <a:t>http://dugward.ru/library/miechow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День народного единства . </a:t>
            </a:r>
            <a:r>
              <a:rPr b="1" lang="en-US" sz="1100" spc="-1" strike="noStrike" u="sng">
                <a:solidFill>
                  <a:srgbClr val="410082"/>
                </a:solidFill>
                <a:uFillTx/>
                <a:latin typeface="Book Antiqua"/>
                <a:hlinkClick r:id="rId9"/>
              </a:rPr>
              <a:t>http://www.pravoslavie.ru/sas/image/100489/48957.p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Словно радуги цвета…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Book Antiqua"/>
              </a:rPr>
              <a:t>http://uvo.do.am/foto_novosti/my_ediny.jpg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Круг толерантности.</a:t>
            </a:r>
            <a:r>
              <a:rPr b="0" lang="en-US" sz="1100" spc="-1" strike="noStrike">
                <a:solidFill>
                  <a:srgbClr val="000000"/>
                </a:solidFill>
                <a:latin typeface="Book Antiqua"/>
              </a:rPr>
              <a:t> http://www.savelki.ru/kdn_i_zp/DruzhbaNarodovV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Схема толерантности </a:t>
            </a:r>
            <a:r>
              <a:rPr b="0" lang="en-US" sz="1100" spc="-1" strike="noStrike">
                <a:solidFill>
                  <a:srgbClr val="000000"/>
                </a:solidFill>
                <a:latin typeface="Book Antiqua"/>
              </a:rPr>
              <a:t>http://rudocs.exdat.com/pars_docs/tw_refs/260/259336/259336_html_m3f4f0f84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Конституция РФ </a:t>
            </a:r>
            <a:r>
              <a:rPr b="0" lang="en-US" sz="1100" spc="-1" strike="noStrike">
                <a:solidFill>
                  <a:srgbClr val="000000"/>
                </a:solidFill>
                <a:latin typeface="Book Antiqua"/>
              </a:rPr>
              <a:t>http://s015.radikal.ru/i332/1103/c8/67e43198a07d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Конституция РФ Статья 3, любое издание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Конституция РФ Статья 19, любое издание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2"/>
          <a:stretch/>
        </p:blipFill>
        <p:spPr>
          <a:xfrm>
            <a:off x="360360" y="268200"/>
            <a:ext cx="3108240" cy="12193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ь истор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йчикова Татьяна Викторов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БОУ СОШ № 1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м. А.А. Перфилье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разработке презентации принимали участие учащиеся 9-11 классов, члены школьного кружка по краеведению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Познакомить учащихся с историей возникновения праздника День народного единств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Продолжить патриотическое воспитание школьников через осознание необходимости всеобщего единения для победы над агрессорами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Продолжить формирование толерантности по отношению к людям любых народов, наций, религий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2" descr=""/>
          <p:cNvPicPr/>
          <p:nvPr/>
        </p:nvPicPr>
        <p:blipFill>
          <a:blip r:embed="rId2"/>
          <a:stretch/>
        </p:blipFill>
        <p:spPr>
          <a:xfrm>
            <a:off x="371520" y="19080"/>
            <a:ext cx="3060720" cy="10904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300816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татья 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 Носителем суверенитета и единственным источником власти в Российской Федерации является ее многонациональный народ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татья 1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Государство гарантирует равенство прав и свобод человека и гражданина независимо от пола, расы, национальности, языка, происхождения, имущественного и должностного положения, места жительства, отношения к религии, убеждений, принадлежности к общественным объединениям, а также других обстоятельств. Запрещаются любые формы ограничения прав граждан по признакам социальной, расовой, национальной, языковой или религиозной принадлежност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Содержимое 5" descr="67e43198a07d.jpg"/>
          <p:cNvPicPr/>
          <p:nvPr/>
        </p:nvPicPr>
        <p:blipFill>
          <a:blip r:embed="rId3"/>
          <a:stretch/>
        </p:blipFill>
        <p:spPr>
          <a:xfrm>
            <a:off x="4032360" y="272880"/>
            <a:ext cx="419724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4" descr=""/>
          <p:cNvPicPr/>
          <p:nvPr/>
        </p:nvPicPr>
        <p:blipFill>
          <a:blip r:embed="rId2"/>
          <a:stretch/>
        </p:blipFill>
        <p:spPr>
          <a:xfrm>
            <a:off x="274680" y="268200"/>
            <a:ext cx="3193920" cy="12366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Times New Roman"/>
              </a:rPr>
              <a:t>В начале </a:t>
            </a:r>
            <a:r>
              <a:rPr b="1" lang="de-DE" sz="1800" spc="-1" strike="noStrike">
                <a:solidFill>
                  <a:srgbClr val="0d0d0d"/>
                </a:solidFill>
                <a:latin typeface="Book Antiqua"/>
              </a:rPr>
              <a:t>XVII </a:t>
            </a:r>
            <a:r>
              <a:rPr b="1" lang="ru-RU" sz="1800" spc="-1" strike="noStrike">
                <a:solidFill>
                  <a:srgbClr val="0d0d0d"/>
                </a:solidFill>
                <a:latin typeface="Times New Roman"/>
              </a:rPr>
              <a:t>века на российской земле царил хаос и разруха. Противостояние внутри страны приобрело трагический характер: рвались родственные связи, гибли виновные и безвинные. Усугубляли положение внешние силы, вынашивавшие планы ослабления и подчинения России</a:t>
            </a:r>
            <a:r>
              <a:rPr b="1" lang="ru-RU" sz="1400" spc="-1" strike="noStrike">
                <a:solidFill>
                  <a:srgbClr val="0d0d0d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Содержимое 9" descr="miechow.jpg"/>
          <p:cNvPicPr/>
          <p:nvPr/>
        </p:nvPicPr>
        <p:blipFill>
          <a:blip r:embed="rId3"/>
          <a:stretch/>
        </p:blipFill>
        <p:spPr>
          <a:xfrm>
            <a:off x="3714840" y="714240"/>
            <a:ext cx="500040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2"/>
          <a:stretch/>
        </p:blipFill>
        <p:spPr>
          <a:xfrm>
            <a:off x="304920" y="-23760"/>
            <a:ext cx="3163680" cy="15177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 эти трагические месяцы огромную роль сыграли посадские и уездные люди, которые взяли инициативу освобождения России и изгнание интервентов в свои рук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Содержимое 4" descr="sm014_1.jpg"/>
          <p:cNvPicPr/>
          <p:nvPr/>
        </p:nvPicPr>
        <p:blipFill>
          <a:blip r:embed="rId3"/>
          <a:stretch/>
        </p:blipFill>
        <p:spPr>
          <a:xfrm>
            <a:off x="3786120" y="1000080"/>
            <a:ext cx="507204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4db8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3008160" cy="51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1611 году в Рязани под руководством Прокопия Ляпунова было создано народное ополчение. Кроме Ляпунова им руководили князь Трубецкой  и атаман Заруцки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з-за противоречий между ними и предательства Заруцкого 1-е ополчение распалось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Содержимое 4" descr="07-14.jpg"/>
          <p:cNvPicPr/>
          <p:nvPr/>
        </p:nvPicPr>
        <p:blipFill>
          <a:blip r:embed="rId2"/>
          <a:stretch/>
        </p:blipFill>
        <p:spPr>
          <a:xfrm>
            <a:off x="4071960" y="1143000"/>
            <a:ext cx="428616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2"/>
          <a:stretch/>
        </p:blipFill>
        <p:spPr>
          <a:xfrm>
            <a:off x="360360" y="268200"/>
            <a:ext cx="3108240" cy="12193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30430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оссия, по словам современников пребывала «при последнем времени» Казалось, уже не осталось сил для ее возрожден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о люди вновь продемон- стрировали свою волю. Осенью 1611 года, усилиями нижегородского старосты Кузьмы Минина было создано Второе ополчени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Содержимое 4" descr="minin-580x353.jpg"/>
          <p:cNvPicPr/>
          <p:nvPr/>
        </p:nvPicPr>
        <p:blipFill>
          <a:blip r:embed="rId3"/>
          <a:stretch/>
        </p:blipFill>
        <p:spPr>
          <a:xfrm>
            <a:off x="3786120" y="857160"/>
            <a:ext cx="514368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4db8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56760" y="1500120"/>
            <a:ext cx="300852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ыл найден и воевода, не запятнавший себя изменами,- князь Дмитрий Михайлович Пожарский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Содержимое 4" descr="1030.jpg"/>
          <p:cNvPicPr/>
          <p:nvPr/>
        </p:nvPicPr>
        <p:blipFill>
          <a:blip r:embed="rId2"/>
          <a:stretch/>
        </p:blipFill>
        <p:spPr>
          <a:xfrm>
            <a:off x="4000680" y="384120"/>
            <a:ext cx="4572000" cy="58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2"/>
          <a:stretch/>
        </p:blipFill>
        <p:spPr>
          <a:xfrm>
            <a:off x="304920" y="-23760"/>
            <a:ext cx="3243240" cy="15177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августе 1612 года полки Второго ополчения подошли к Москв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Здесь в районе Новодевичьего монастыря им пришлось вести тяжелые бои с гетманом Ходкевиче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решающий момент отрядам Второго ополчения помогли казаки Первого ополчения. Боевое содружество привело к победе над врагом и к объединению всех си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Содержимое 6" descr="1262194244_imgb.jpeg"/>
          <p:cNvPicPr/>
          <p:nvPr/>
        </p:nvPicPr>
        <p:blipFill>
          <a:blip r:embed="rId3"/>
          <a:stretch/>
        </p:blipFill>
        <p:spPr>
          <a:xfrm>
            <a:off x="3575160" y="1000080"/>
            <a:ext cx="52830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6T13:57:06Z</dcterms:created>
  <dc:creator>дом</dc:creator>
  <dc:description/>
  <dc:language>en-US</dc:language>
  <cp:lastModifiedBy>Мама</cp:lastModifiedBy>
  <dcterms:modified xsi:type="dcterms:W3CDTF">2012-10-29T04:23:41Z</dcterms:modified>
  <cp:revision>36</cp:revision>
  <dc:subject/>
  <dc:title>Слайд 1</dc:title>
</cp:coreProperties>
</file>